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43713" cy="9263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B66-518F-40C9-B76E-34F2C75F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FDC-FA5B-40DA-82F0-2594E8F5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422-E3CF-4C2A-BD4F-B0B93BAC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C42-53C7-4368-A1B0-F96E8F36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11F-45EE-4451-9139-A3B7D113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EFB-4C51-4CB6-BD82-AB16EC10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250-2A83-46AD-AD01-AC0B24DD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5EE0-CF34-420F-A2E9-F0B98AF3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B3F-5688-4421-8117-6A4E0F91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56EA-760C-46FD-A9EA-AAE27BD4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FE8-66E1-49F4-86CC-09E98B66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5DE-C966-4831-8BBE-3D3191C3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72C1-D920-472B-9FD9-1992DCA6A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bthslmc.pbworks.com/BTHS+Excellence+By+Design" TargetMode="External"/><Relationship Id="rId4" Type="http://schemas.openxmlformats.org/officeDocument/2006/relationships/hyperlink" Target="http://bthslmc.pbworks.com/BTHS+Excellence+By+Design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438280" y="5335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rlington Township High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362320"/>
            <a:ext cx="712476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idd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xcellence By Desig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ard Of Education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6,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762120" y="2286000"/>
            <a:ext cx="2209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3352680"/>
            <a:ext cx="6477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ntifying Priorities with Three to Five Measurable Objec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838080" y="23623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3429000"/>
            <a:ext cx="6172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ing an Action Pl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ointing Implementation Te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762120" y="259092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3581280"/>
            <a:ext cx="655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ing the Accreditation Team, October 19 – 22, 200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533520"/>
            <a:ext cx="5105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To Be Completed by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838080" y="2514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V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342900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reditation A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533520"/>
            <a:ext cx="4419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to be Completed by the Middle States Accreditation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62120" y="281952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V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9760" y="3886200"/>
            <a:ext cx="6324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lementation of the Action Plan for Growth and Improv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533520"/>
            <a:ext cx="44960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to be Completed by the EBD Planning Committee and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200240" y="2590920"/>
            <a:ext cx="6743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D Planning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 1 at 6:00 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THS L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743200" y="45720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447920"/>
            <a:ext cx="73152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ointment of Internal Coordina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ointment of Planning Te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munication with Faculty, Staff, and Community vi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EBD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 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ulty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90720" y="2286000"/>
            <a:ext cx="7238880" cy="29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ion of Mission Statemen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ion of Statement of Belief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ion of Profile of the Gradu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tablishing Twelve Subcommitt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45720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838080" y="2209680"/>
            <a:ext cx="73915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32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3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urlington Township School District will develop the intellectual, creative, and social potential of each child through an active partnership with all members of the commu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45720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838080" y="2286000"/>
            <a:ext cx="73915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ment of Belie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BELIEVE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all students learn based on their individual style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the school community establishes a safe, secure, and positive cl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mutual respect and appreciation of diversity enriches a comm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57200"/>
            <a:ext cx="5105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743200" y="457200"/>
            <a:ext cx="5105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676520"/>
            <a:ext cx="76960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file of the Grad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BTHS graduate wi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ow respect toward self and others in a personal and professional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critically in order to adapt and apply knowledge to new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 an effective communic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ve knowledge of emerging techno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te productively and ethically as a member of our democratic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200400" y="7621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HS Fa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05120"/>
            <a:ext cx="739152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Indication of Support / Non-support of Mission Stat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Indication of Agreement / Disagreement with Statement of Belief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Indication of Agreement / Disagreement with Profile of the Gradu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Internal Sc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External Sc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895480" y="609480"/>
            <a:ext cx="525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Subcommit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1905120"/>
            <a:ext cx="58672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ion of Artifacts and Evid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Internal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External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Parent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Student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ve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838080" y="2057400"/>
            <a:ext cx="1981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2895480"/>
            <a:ext cx="6553440" cy="25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ing the Profile of the School and Its Commun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 of 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ile of Student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ile of Organizational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22:31:10Z</dcterms:created>
  <dc:creator>Nina Franco</dc:creator>
  <dc:description/>
  <dc:language>en-US</dc:language>
  <cp:lastModifiedBy>nfranco</cp:lastModifiedBy>
  <dcterms:modified xsi:type="dcterms:W3CDTF">2009-09-16T18:02:30Z</dcterms:modified>
  <cp:revision>58</cp:revision>
  <dc:subject/>
  <dc:title>Accelerated Reader + Instructional Council Members= Reading Success For All!</dc:title>
</cp:coreProperties>
</file>